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E6F-D671-4A7C-9FB5-02F17179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3DC-889C-49E9-907C-CAC0561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0FD-3EEE-4397-BE15-F1493016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190-6C88-4A42-BA69-2BA3956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419B-FE38-4ADB-B77A-3080C7DB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39E-EA91-438F-8DD9-5EA4B622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CF3-01F9-459F-8635-6779EAE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755A-50EE-418D-AD33-081B9F1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C8FE-AA42-4A3C-8F38-63BF0C3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083C-048E-4734-BCC9-8F4454AC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8505-49F9-433D-B1E8-9593FC2E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AD8-176B-4E9C-8A35-8341166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811-6B9E-4627-B77D-D035AD0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E937-44E8-486B-A8DE-7FF3D735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4F9E-ACED-4A68-8A27-9B74D3E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A91F-3D9E-402E-A9D6-80D4FD74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BBEE-88F9-44EB-A3A1-67D46FA8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9BB-9067-45E1-A33E-2FB749F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748-6FA9-4A20-96D3-E3E3157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D5C-741C-4CA6-A477-B2E17857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29F0-8DEC-44BE-AC14-FD217275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807-38DE-44B2-9D86-6DBE0BB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237-4906-4792-AC27-6ACBD7A9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F5B-292C-48A8-9293-3F22376F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DFDA-717E-43B2-8BF5-F1A7D92013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52CC-E68B-4C6E-AD73-7DF94EEF32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неклассное занятие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 3 Б класс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«Птичья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ярмарка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валева 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4" descr="кормушка.JPG"/>
          <p:cNvPicPr/>
          <p:nvPr/>
        </p:nvPicPr>
        <p:blipFill>
          <a:blip r:embed="rId1"/>
          <a:stretch/>
        </p:blipFill>
        <p:spPr>
          <a:xfrm>
            <a:off x="2357280" y="1500120"/>
            <a:ext cx="4786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ургина Викто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Рисунок 5" descr="PIC_3267.JPG"/>
          <p:cNvPicPr/>
          <p:nvPr/>
        </p:nvPicPr>
        <p:blipFill>
          <a:blip r:embed="rId1"/>
          <a:stretch/>
        </p:blipFill>
        <p:spPr>
          <a:xfrm>
            <a:off x="1143000" y="1214280"/>
            <a:ext cx="728676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114_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e6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e6b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НЕ РАЗРУШАЙТЕ ПТИЧЬИ ГНЁЗ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2. НЕ ЗАБЫВЙТЕ ПОДКАРМЛИВАТЬ ПТИЦ ЗИМ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3.  РАЗВЕШИВАЙТЕ КОРМУШ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В ЗАЩИЩЁННЫХ ОТ ВЕТРА МЕС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62b"/>
                </a:solidFill>
                <a:latin typeface="Arial"/>
              </a:rPr>
              <a:t>4. БЕРЕГИТЕ ЛЕС ОТ ОГНЯ! ОН - НАШ ДО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дарность пти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8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504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L4GQkFjbSF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67173752_0_7612_f4ef5ea_XL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 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снег в лесу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a7c6daa163a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снег в лесу 1"/>
          <p:cNvPicPr/>
          <p:nvPr/>
        </p:nvPicPr>
        <p:blipFill>
          <a:blip r:embed="rId3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0_72757_3f9c55_XL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х птиц называют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имующи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ех, которые зимуют у н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ех, которые зимуют на ю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ех, которые живут на юг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чему перелётные птиц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летают на юг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ора выводить птен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холод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голод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имовать у нас остаютс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тицы, которые питают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летающими насекомыми и черв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семенами растений и   личинками насеком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рыбой и лягушк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зимой птицам труднее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енест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х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гол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недостаток во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ельков Андр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5" descr="кормушка - копия.JPG"/>
          <p:cNvPicPr/>
          <p:nvPr/>
        </p:nvPicPr>
        <p:blipFill>
          <a:blip r:embed="rId1"/>
          <a:stretch/>
        </p:blipFill>
        <p:spPr>
          <a:xfrm>
            <a:off x="1476360" y="1547640"/>
            <a:ext cx="604836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Харина Дарь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5" descr="кормушка - копия (2).JPG"/>
          <p:cNvPicPr/>
          <p:nvPr/>
        </p:nvPicPr>
        <p:blipFill>
          <a:blip r:embed="rId1"/>
          <a:stretch/>
        </p:blipFill>
        <p:spPr>
          <a:xfrm>
            <a:off x="2357280" y="1163520"/>
            <a:ext cx="58150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5:56:53Z</dcterms:created>
  <dc:creator>Марина</dc:creator>
  <dc:description/>
  <dc:language>en-US</dc:language>
  <cp:lastModifiedBy>МЕТОДИЧЕСКИЙ КАБИНЕТ</cp:lastModifiedBy>
  <dcterms:modified xsi:type="dcterms:W3CDTF">2018-01-11T03:52:33Z</dcterms:modified>
  <cp:revision>18</cp:revision>
  <dc:subject/>
  <dc:title>Внеклассное занятие в 3 а классе</dc:title>
</cp:coreProperties>
</file>